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EB4-DE7C-4D33-8709-9B76554B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E10-DB70-4A87-B046-D403B639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5E1-036B-40B9-8B97-4C8A1B7B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8D7-015B-48C1-8CD9-8DDB07CA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2DF-BA81-49E4-BB7F-ED4C0B3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E6E-6823-4928-829B-601F0F6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5DC-572B-4420-9955-CEBA6205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E01-DB74-4680-8E4D-F2E4630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DDC-5AC9-4DBA-AD3D-1A308A37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BEE-928E-43D7-B2F6-7BD0AC8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F43-9EF3-4024-8F62-284A8B71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0F5-076C-43EF-BC78-2CD5B6D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A53B-5684-4409-B0A9-A206A97D8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yler Henni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sCABR2B8K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685800" y="380880"/>
            <a:ext cx="7238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agesCA5DFVV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80880" y="1066680"/>
            <a:ext cx="8382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hilosho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80880" y="53352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04920" y="0"/>
            <a:ext cx="815328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area of land nearly surrounded b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between Athens and Spar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untitled.bmp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0" y="0"/>
            <a:ext cx="914400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the coas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4" descr="imagesCAAJ38S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agesCARRVMRE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838080" y="4572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wmaking place where people voted  on issues that helped their 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magesCAM7KD12.jpg"/>
          <p:cNvPicPr/>
          <p:nvPr/>
        </p:nvPicPr>
        <p:blipFill>
          <a:blip r:embed="rId1"/>
          <a:stretch/>
        </p:blipFill>
        <p:spPr>
          <a:xfrm>
            <a:off x="1143000" y="36360"/>
            <a:ext cx="6705720" cy="6821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457200" y="304920"/>
            <a:ext cx="83818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erson that has certain rights and responsibilities to his or 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sCAOGYO30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33520" y="380880"/>
            <a:ext cx="81532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orupe of people that lived apart from greece but kept economic ties with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1143000" y="457200"/>
            <a:ext cx="72388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c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orm of government where people vote to ma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sCAVCHQJU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-304920" y="0"/>
            <a:ext cx="9448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ear evidence and make decisions in the court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sCAQ44806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457200" y="380880"/>
            <a:ext cx="78487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5:50:43Z</dcterms:modified>
  <cp:revision>94</cp:revision>
  <dc:subject/>
  <dc:title>Ancient Greece</dc:title>
</cp:coreProperties>
</file>